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C458-081E-4FF7-97D9-75A604E34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F251-B587-4D5C-A4B0-B5D9043B7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AB1A-201B-4FF1-A598-BDD01D1A3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D71F-1301-4300-B029-10E33C104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DB4F-73D0-4E2E-916C-2F89C8A0D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73B9-407C-46E9-8B18-D0D8B08D7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1E89-4268-423C-9EBD-7931082F3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0E4A-1ED5-44FC-AC8B-1648EB77C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39B7-E1F1-4433-A12E-F632FFF15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B19D-3BA6-4BC5-9BFC-503B78031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6973-62CF-4958-A03D-B32824B71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A2C6-6095-4737-9004-74825C616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A69ED-826A-4D6D-8CFB-A8B0D6702F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be0e3"/>
                </a:solidFill>
                <a:latin typeface="Arial Narrow"/>
              </a:rPr>
              <a:t>Prayer of Confession (SLD-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God of all mercy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give us grace toda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o make a fresh star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e know we have not loved yo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ith our whole heart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nor have we loved our neighbou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s ourselv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s we hope to be forgiven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each us how to forgive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nd lead us forward in a new lif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here neither grudg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nor resentment have a part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hrough Jesus Christ our Lord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m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66"/>
                </a:solidFill>
                <a:latin typeface="Arial"/>
              </a:rPr>
              <a:t>The leader says a scripture sentence, and then s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Hear then Christ’s word of grac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to u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‘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Your sins are forgiven.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hanks be to Go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Mark 2: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609588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Prayer © 1999, </a:t>
            </a:r>
            <a:r>
              <a:rPr b="0" i="1" lang="en-US" sz="2400" spc="-1" strike="noStrike">
                <a:solidFill>
                  <a:srgbClr val="bbe0e3"/>
                </a:solidFill>
                <a:latin typeface="Arial Narrow"/>
              </a:rPr>
              <a:t>Methodist Worship Bo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0T01:42:10Z</dcterms:created>
  <dc:creator>Anon Anon</dc:creator>
  <dc:description/>
  <dc:language>en-US</dc:language>
  <cp:lastModifiedBy>Anon Anon</cp:lastModifiedBy>
  <dcterms:modified xsi:type="dcterms:W3CDTF">2005-08-16T04:20:57Z</dcterms:modified>
  <cp:revision>17</cp:revision>
  <dc:subject/>
  <dc:title>PowerPoint Presentation</dc:title>
</cp:coreProperties>
</file>